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1CE4-11D0-4305-AE3B-3C060335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16E-D819-464C-94DA-253D4C3B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6F69-15C4-4442-89CD-9E784209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917-D60C-47C1-810C-7FDFC4EA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3B5-9CDA-450B-9DEA-216A8FA6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5A4-51A1-4753-A5A5-9365F77C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6F9E-0271-4A44-A10A-196E624D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6A0-C719-431D-82AF-DCA97AF0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67E-D034-4CF3-963F-DAF25728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5ECA-FB3B-45FD-AEFD-DFC5A022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8125-5E97-49C7-8EC5-5D100A1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69E-CF9E-462D-810C-0F8F5EE5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8CE-9D43-41BC-BEE0-363BBA0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BA8-11FC-4234-833A-C963ECF300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206064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is mo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come up with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ini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quirements and write just enough code to satisfy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, avoid “speculative generality”.  page 83 “Refactoring”, by Martin Fow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JC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in SLF4J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8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953" t="1564" r="953" b="1392"/>
          <a:stretch/>
        </p:blipFill>
        <p:spPr>
          <a:xfrm>
            <a:off x="1042920" y="1773360"/>
            <a:ext cx="734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Ceki </cp:lastModifiedBy>
  <dcterms:modified xsi:type="dcterms:W3CDTF">2008-09-25T09:35:06Z</dcterms:modified>
  <cp:revision>23</cp:revision>
  <dc:subject/>
  <dc:title>Slf4j &amp; logback projects</dc:title>
</cp:coreProperties>
</file>